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778-A8C6-43EA-A17F-491F1B50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1E1-5AA4-474A-9ED3-7380786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C96-2B78-4609-96FD-54BED067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991-95FE-4561-87B0-A83740FF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CEA-8B84-4D19-BDC4-7623CDBF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799-F7EF-48D2-B299-9735932B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EB7-C5A5-47F5-B8DF-8BE84AC4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C4E-53BA-4615-91B0-ED0E2F3E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728-9B44-45E6-8CAE-C007AC0F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C5D-A1FC-4114-8CCF-6AD6C26A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C77-3BE5-49F9-88F1-46152111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D38-938E-4F7F-8AB3-56442B5A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E179-115D-4906-801A-E9469C857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DB: A Generic Insertional Mutagenesis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800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aokang Pan and Lincoln 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stribution" descr=""/>
          <p:cNvPicPr/>
          <p:nvPr/>
        </p:nvPicPr>
        <p:blipFill>
          <a:blip r:embed="rId1"/>
          <a:stretch/>
        </p:blipFill>
        <p:spPr>
          <a:xfrm>
            <a:off x="565200" y="771480"/>
            <a:ext cx="8013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DB Future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s for phenotype and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with gene ontology, plant ontology, trait ontology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chema for Phenotype and Gene Expres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1480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19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724280"/>
            <a:ext cx="14479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676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63868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562720"/>
            <a:ext cx="121932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22860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9718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6483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8148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81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90960" y="46483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5812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09680" y="2895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4572000"/>
            <a:ext cx="2210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82880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047760" y="51814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430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429000"/>
            <a:ext cx="1828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514240" y="26665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1600200"/>
            <a:ext cx="1600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I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7339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666520" y="3657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8669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38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4382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Hong Liu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r postdoc in Stein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n Schmi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lle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6080" y="2438280"/>
            <a:ext cx="297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Innes Centre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ke Be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Jonathan Cla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techn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sequenced insertion sites for model organis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users with useful tools to search for insertions in gene of interest and to track progress of the multinational effort to find insertions in each g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the study of insertion site distrib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Mapp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057400"/>
            <a:ext cx="2971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nk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00400"/>
            <a:ext cx="297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U-BLAS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267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top hit with sco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5410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sertion site o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41008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it to a clone &amp; 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267080"/>
            <a:ext cx="32763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R genome 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47960" y="4876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84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124080"/>
            <a:ext cx="3352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R pseudo-chromos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26708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 Sche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8520" y="1984320"/>
            <a:ext cx="1585800" cy="711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2096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124080"/>
            <a:ext cx="1363680" cy="584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276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54840" y="316692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08880" y="335448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8520" y="5294160"/>
            <a:ext cx="1511280" cy="532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2320" y="54561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8520" y="4289400"/>
            <a:ext cx="151128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4497480"/>
            <a:ext cx="109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nking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7680" y="4289400"/>
            <a:ext cx="13590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916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11160" y="447660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54840" y="428940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6760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3840" y="44766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0" y="2576520"/>
            <a:ext cx="1577520" cy="623160"/>
            <a:chOff x="2286000" y="2576520"/>
            <a:chExt cx="1577520" cy="623160"/>
          </a:xfrm>
        </p:grpSpPr>
        <p:sp>
          <p:nvSpPr>
            <p:cNvPr id="78" name=""/>
            <p:cNvSpPr/>
            <p:nvPr/>
          </p:nvSpPr>
          <p:spPr>
            <a:xfrm flipV="1">
              <a:off x="2286000" y="2606760"/>
              <a:ext cx="1496880" cy="59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4800" y="2576520"/>
              <a:ext cx="108720" cy="6264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64" y="91"/>
                  </a:moveTo>
                  <a:lnTo>
                    <a:pt x="139" y="0"/>
                  </a:lnTo>
                  <a:lnTo>
                    <a:pt x="0" y="8"/>
                  </a:lnTo>
                  <a:lnTo>
                    <a:pt x="6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676520" y="3733920"/>
            <a:ext cx="99720" cy="532440"/>
            <a:chOff x="1676520" y="3733920"/>
            <a:chExt cx="99720" cy="532440"/>
          </a:xfrm>
        </p:grpSpPr>
        <p:sp>
          <p:nvSpPr>
            <p:cNvPr id="81" name=""/>
            <p:cNvSpPr/>
            <p:nvPr/>
          </p:nvSpPr>
          <p:spPr>
            <a:xfrm flipV="1">
              <a:off x="1725480" y="3817440"/>
              <a:ext cx="108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76520" y="3733920"/>
              <a:ext cx="99720" cy="87480"/>
            </a:xfrm>
            <a:custGeom>
              <a:avLst/>
              <a:gdLst/>
              <a:ahLst/>
              <a:rect l="l" t="t" r="r" b="b"/>
              <a:pathLst>
                <a:path w="124" h="98">
                  <a:moveTo>
                    <a:pt x="124" y="98"/>
                  </a:moveTo>
                  <a:lnTo>
                    <a:pt x="61" y="0"/>
                  </a:lnTo>
                  <a:lnTo>
                    <a:pt x="0" y="98"/>
                  </a:lnTo>
                  <a:lnTo>
                    <a:pt x="12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06680" y="4546440"/>
            <a:ext cx="1131840" cy="78120"/>
            <a:chOff x="2506680" y="4546440"/>
            <a:chExt cx="1131840" cy="78120"/>
          </a:xfrm>
        </p:grpSpPr>
        <p:sp>
          <p:nvSpPr>
            <p:cNvPr id="84" name=""/>
            <p:cNvSpPr/>
            <p:nvPr/>
          </p:nvSpPr>
          <p:spPr>
            <a:xfrm>
              <a:off x="2506680" y="4584600"/>
              <a:ext cx="10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4024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3" h="97">
                  <a:moveTo>
                    <a:pt x="0" y="97"/>
                  </a:moveTo>
                  <a:lnTo>
                    <a:pt x="123" y="48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48360" y="4546440"/>
            <a:ext cx="906480" cy="78120"/>
            <a:chOff x="5148360" y="4546440"/>
            <a:chExt cx="906480" cy="78120"/>
          </a:xfrm>
        </p:grpSpPr>
        <p:sp>
          <p:nvSpPr>
            <p:cNvPr id="87" name=""/>
            <p:cNvSpPr/>
            <p:nvPr/>
          </p:nvSpPr>
          <p:spPr>
            <a:xfrm flipH="1">
              <a:off x="5241960" y="4584600"/>
              <a:ext cx="81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836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0"/>
                  </a:moveTo>
                  <a:lnTo>
                    <a:pt x="0" y="48"/>
                  </a:lnTo>
                  <a:lnTo>
                    <a:pt x="125" y="9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84840" y="3757680"/>
            <a:ext cx="98640" cy="531720"/>
            <a:chOff x="6684840" y="3757680"/>
            <a:chExt cx="98640" cy="531720"/>
          </a:xfrm>
        </p:grpSpPr>
        <p:sp>
          <p:nvSpPr>
            <p:cNvPr id="90" name=""/>
            <p:cNvSpPr/>
            <p:nvPr/>
          </p:nvSpPr>
          <p:spPr>
            <a:xfrm flipV="1">
              <a:off x="6734160" y="3830760"/>
              <a:ext cx="144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4840" y="37576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97"/>
                  </a:moveTo>
                  <a:lnTo>
                    <a:pt x="61" y="0"/>
                  </a:lnTo>
                  <a:lnTo>
                    <a:pt x="0" y="97"/>
                  </a:lnTo>
                  <a:lnTo>
                    <a:pt x="12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978520" y="1984320"/>
            <a:ext cx="1511280" cy="65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2000" y="22096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84840" y="2635200"/>
            <a:ext cx="98640" cy="531720"/>
            <a:chOff x="6684840" y="2635200"/>
            <a:chExt cx="98640" cy="531720"/>
          </a:xfrm>
        </p:grpSpPr>
        <p:sp>
          <p:nvSpPr>
            <p:cNvPr id="95" name=""/>
            <p:cNvSpPr/>
            <p:nvPr/>
          </p:nvSpPr>
          <p:spPr>
            <a:xfrm>
              <a:off x="6734160" y="26352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4840" y="3090960"/>
              <a:ext cx="98640" cy="759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1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44840" y="4879800"/>
            <a:ext cx="98640" cy="414360"/>
            <a:chOff x="4344840" y="4879800"/>
            <a:chExt cx="98640" cy="414360"/>
          </a:xfrm>
        </p:grpSpPr>
        <p:sp>
          <p:nvSpPr>
            <p:cNvPr id="98" name=""/>
            <p:cNvSpPr/>
            <p:nvPr/>
          </p:nvSpPr>
          <p:spPr>
            <a:xfrm>
              <a:off x="4392720" y="4879800"/>
              <a:ext cx="144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4840" y="521640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2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06680" y="3424320"/>
            <a:ext cx="3548160" cy="77760"/>
            <a:chOff x="2506680" y="3424320"/>
            <a:chExt cx="3548160" cy="77760"/>
          </a:xfrm>
        </p:grpSpPr>
        <p:sp>
          <p:nvSpPr>
            <p:cNvPr id="101" name=""/>
            <p:cNvSpPr/>
            <p:nvPr/>
          </p:nvSpPr>
          <p:spPr>
            <a:xfrm flipH="1">
              <a:off x="2600280" y="3462480"/>
              <a:ext cx="345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6680" y="3424320"/>
              <a:ext cx="9828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0"/>
                  </a:moveTo>
                  <a:lnTo>
                    <a:pt x="0" y="49"/>
                  </a:lnTo>
                  <a:lnTo>
                    <a:pt x="125" y="9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997520" y="2576520"/>
            <a:ext cx="1282320" cy="649440"/>
            <a:chOff x="4997520" y="2576520"/>
            <a:chExt cx="1282320" cy="649440"/>
          </a:xfrm>
        </p:grpSpPr>
        <p:sp>
          <p:nvSpPr>
            <p:cNvPr id="104" name=""/>
            <p:cNvSpPr/>
            <p:nvPr/>
          </p:nvSpPr>
          <p:spPr>
            <a:xfrm flipH="1" flipV="1">
              <a:off x="5074920" y="2614680"/>
              <a:ext cx="120492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7520" y="2576520"/>
              <a:ext cx="109440" cy="745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138" y="14"/>
                  </a:moveTo>
                  <a:lnTo>
                    <a:pt x="0" y="0"/>
                  </a:lnTo>
                  <a:lnTo>
                    <a:pt x="71" y="95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638520" y="3462480"/>
            <a:ext cx="1511280" cy="591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7880" y="364968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79040" y="3649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5560" y="364968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44840" y="4052880"/>
            <a:ext cx="98640" cy="236520"/>
            <a:chOff x="4344840" y="4052880"/>
            <a:chExt cx="98640" cy="236520"/>
          </a:xfrm>
        </p:grpSpPr>
        <p:sp>
          <p:nvSpPr>
            <p:cNvPr id="111" name=""/>
            <p:cNvSpPr/>
            <p:nvPr/>
          </p:nvSpPr>
          <p:spPr>
            <a:xfrm>
              <a:off x="4392720" y="4052880"/>
              <a:ext cx="14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4840" y="4213080"/>
              <a:ext cx="98640" cy="763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0" y="0"/>
                  </a:moveTo>
                  <a:lnTo>
                    <a:pt x="62" y="97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44840" y="2693880"/>
            <a:ext cx="98640" cy="768600"/>
            <a:chOff x="4344840" y="2693880"/>
            <a:chExt cx="98640" cy="768600"/>
          </a:xfrm>
        </p:grpSpPr>
        <p:sp>
          <p:nvSpPr>
            <p:cNvPr id="114" name=""/>
            <p:cNvSpPr/>
            <p:nvPr/>
          </p:nvSpPr>
          <p:spPr>
            <a:xfrm flipV="1">
              <a:off x="4392720" y="2766960"/>
              <a:ext cx="1440" cy="69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4840" y="26938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98"/>
                  </a:moveTo>
                  <a:lnTo>
                    <a:pt x="62" y="0"/>
                  </a:lnTo>
                  <a:lnTo>
                    <a:pt x="0" y="98"/>
                  </a:lnTo>
                  <a:lnTo>
                    <a:pt x="12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Database Imple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rsing, insertion mapping and data loading scripts coded in Per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interfaces use Perl-CGI scrip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implemented using MySQL, a relational DB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homepage1" descr=""/>
          <p:cNvPicPr/>
          <p:nvPr/>
        </p:nvPicPr>
        <p:blipFill>
          <a:blip r:embed="rId1"/>
          <a:stretch/>
        </p:blipFill>
        <p:spPr>
          <a:xfrm>
            <a:off x="507960" y="270000"/>
            <a:ext cx="812808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rotein" descr=""/>
          <p:cNvPicPr/>
          <p:nvPr/>
        </p:nvPicPr>
        <p:blipFill>
          <a:blip r:embed="rId1"/>
          <a:stretch/>
        </p:blipFill>
        <p:spPr>
          <a:xfrm>
            <a:off x="571680" y="771480"/>
            <a:ext cx="8001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  <p:pic>
        <p:nvPicPr>
          <p:cNvPr id="122" name="protein" descr=""/>
          <p:cNvPicPr/>
          <p:nvPr/>
        </p:nvPicPr>
        <p:blipFill>
          <a:blip r:embed="rId2"/>
          <a:stretch/>
        </p:blipFill>
        <p:spPr>
          <a:xfrm>
            <a:off x="571680" y="781200"/>
            <a:ext cx="8001000" cy="5295600"/>
          </a:xfrm>
          <a:prstGeom prst="rect">
            <a:avLst/>
          </a:prstGeom>
          <a:ln w="0">
            <a:noFill/>
          </a:ln>
        </p:spPr>
      </p:pic>
      <p:pic>
        <p:nvPicPr>
          <p:cNvPr id="123" name="gene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82706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8T00:05:12Z</dcterms:created>
  <dc:creator>pan</dc:creator>
  <dc:description/>
  <dc:language>en-US</dc:language>
  <cp:lastModifiedBy>pan</cp:lastModifiedBy>
  <dcterms:modified xsi:type="dcterms:W3CDTF">2003-05-02T14:39:05Z</dcterms:modified>
  <cp:revision>230</cp:revision>
  <dc:subject/>
  <dc:title>Comparative Analysis of Defective Spm, Dissociation and T-DNA Insertions in Arabidopsis Using ATIDB</dc:title>
</cp:coreProperties>
</file>